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17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6.wmf" ContentType="image/x-wmf"/>
  <Override PartName="/ppt/media/image19.jpeg" ContentType="image/jpeg"/>
  <Override PartName="/ppt/media/image5.wmf" ContentType="image/x-wmf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3BE2C-8FFE-452D-A8D7-32468C0A599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45125-F4C3-4518-8B6A-95E244066AF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32141-F810-4F3C-80D5-9BCF7838CA2E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9937E-13C3-49B7-8953-F24F6B79456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A3527-6493-4128-AFB0-13519881CF5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3B8B4-DA0A-436C-83F7-16EF9AD8288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D9386-9112-4377-94FF-CD75CB90E60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C82B8-E82B-4941-A0FA-B9C4992D9A7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4E3DF-C8E5-4BC3-8327-725BB51B10C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75C55-18DD-4EC6-85CA-DA4EAED74A8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2A8BC-80CB-4C74-9ADE-4B495F9E215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F5E8-F01F-4C15-8855-4F0BD596BBA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95C31-68B8-471B-B272-1078E5D64D1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3EBD-95EB-421C-AB67-09E124CA1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8E0D-0AEA-4501-B42A-96E353E16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78D4-B834-4E50-9FD0-9F832948C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B5D3-20A6-45CD-8ACA-DD342BF00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716A1-55ED-4FD4-9C75-BAEEB054E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BE43A-AFAD-4737-8F05-449EE9ADA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CD0C7-C44A-4DB0-A417-925A569B1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B9056-381D-42EE-A033-01A4A07A9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2879A-A7CD-440E-AE27-270E81C39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180BE-B438-4B07-8D22-169057D8D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0E567-4270-48FA-A558-2592DA57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C2FE-318A-44E9-979B-5EF9E5A91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07951-DDF5-4147-97D9-3E36C400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1DFEE-6538-4042-9030-CA91E9B2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85C44-CAE9-47B6-B144-DDDE508EA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A0E88-7188-41F3-888A-8FBD89E9A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D9F9B-C2D5-4115-8DB3-56E102ED9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414D1-2727-4C6F-A0C4-9350D7D78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9AFFC-197D-4F02-A650-F1E90F894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D08F1-3BC5-4842-AFDA-12F3140D2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3AFE1-86DE-4345-92CA-60BA394E0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6B59D4-8137-443D-8997-8ED10291E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C3FD-AF53-4415-95ED-460F1F942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03929-E3C9-407F-95AB-DB0673AAC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8D989-FAF7-41D6-BD78-15B456FA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FC89D-8B29-4296-8A82-F533CD3E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732F6-36CA-47E3-AA90-87D66B60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C7B02-9482-4AFE-9C68-3670BC0EA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09CB0-7BAF-4A36-B7EE-65DECF117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26A40-DC30-4D16-AC30-4DEA86604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4FBD-A4E4-43EA-8D2C-603F4840F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3C0C-BA84-451B-8E93-4B4F16416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DB46-96D6-4BFA-AA96-CBF2CA4A1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7BB4-6B10-425A-8CB5-5AB20A13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C2B8-5316-4419-8D9E-904DD7DF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4565-8BA5-4FDC-875E-F99710BF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784BD-7BAD-40A3-90A7-E48D30AFA8EA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2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C05C8-49F7-4D39-A7BD-B7637042F058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87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33016-8ED3-4176-A448-17D5358670B4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21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4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5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6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7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8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9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20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imes New Roman"/>
              </a:rPr>
              <a:t>Hydraulikschem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Fußbodenheizung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Heizkörpe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Fußbodenheizung mit RTL-Venti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Speicheraufladu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Regelungstechnik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46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46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46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46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46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6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6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47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47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47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47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47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8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8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48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49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50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50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50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50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51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54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54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55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4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625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626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627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628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629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0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31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632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633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634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35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636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7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8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9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40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41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2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3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4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5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6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7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8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9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650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0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61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62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663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664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665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2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673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1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702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703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1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712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3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5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1786" name="Line 165"/>
          <p:cNvSpPr/>
          <p:nvPr/>
        </p:nvSpPr>
        <p:spPr>
          <a:xfrm flipV="1">
            <a:off x="1187280" y="2492280"/>
            <a:ext cx="3816360" cy="649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Textfeld 1"/>
          <p:cNvSpPr/>
          <p:nvPr/>
        </p:nvSpPr>
        <p:spPr>
          <a:xfrm>
            <a:off x="4859280" y="1722600"/>
            <a:ext cx="266544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Hier das Bild einer Einzelraumsteuerung einfü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8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789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790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791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792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793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794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795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796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797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798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99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800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1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2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3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4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5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6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7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8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9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10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11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812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813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814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4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825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826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827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828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829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6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837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5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866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867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5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876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7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9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950" name="Picture 164" descr="http://hausbau.daoud.de/wp-content/uploads/2011/03/IMG_6465-Kopie-1024x767.jpg"/>
          <p:cNvPicPr/>
          <p:nvPr/>
        </p:nvPicPr>
        <p:blipFill>
          <a:blip r:embed="rId38"/>
          <a:stretch/>
        </p:blipFill>
        <p:spPr>
          <a:xfrm>
            <a:off x="1476360" y="1052640"/>
            <a:ext cx="5904000" cy="4422600"/>
          </a:xfrm>
          <a:prstGeom prst="rect">
            <a:avLst/>
          </a:prstGeom>
          <a:ln w="0">
            <a:noFill/>
          </a:ln>
        </p:spPr>
      </p:pic>
      <p:sp>
        <p:nvSpPr>
          <p:cNvPr id="1951" name="Line 165"/>
          <p:cNvSpPr/>
          <p:nvPr/>
        </p:nvSpPr>
        <p:spPr>
          <a:xfrm>
            <a:off x="324000" y="620640"/>
            <a:ext cx="309564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95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95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95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95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95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5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5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96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96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96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6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96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7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7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97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8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9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99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99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99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200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203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203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04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9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2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5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6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7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8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9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0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1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2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3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4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5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6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7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8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9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0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1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2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3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4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5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4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5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6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81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82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84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92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93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94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95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6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7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98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00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1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2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3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4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0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09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10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1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12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5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16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17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89" name="Line 126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27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28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30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31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32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33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34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35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36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40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41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42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43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44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45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46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49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50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51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52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53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54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55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57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8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59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60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61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63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219" name="Line 164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65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66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67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68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69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70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71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Object 172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28" name="Object 172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Line 173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74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79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80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82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83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84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85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86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88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89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90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91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92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93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94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95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96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97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98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99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00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01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02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03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04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05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06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07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08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09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10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11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12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13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14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15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16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17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1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2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2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2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22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22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2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2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2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2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23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23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23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23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23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23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23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3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23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23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4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24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4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4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4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4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4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4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24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24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5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5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25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54" descr="http://bauen.in-tostedt.de/uploads/Tostedt/100_0598.JPG"/>
          <p:cNvPicPr/>
          <p:nvPr/>
        </p:nvPicPr>
        <p:blipFill>
          <a:blip r:embed="rId38"/>
          <a:stretch/>
        </p:blipFill>
        <p:spPr>
          <a:xfrm>
            <a:off x="395280" y="1413000"/>
            <a:ext cx="5184720" cy="3890880"/>
          </a:xfrm>
          <a:prstGeom prst="rect">
            <a:avLst/>
          </a:prstGeom>
          <a:ln w="0">
            <a:noFill/>
          </a:ln>
        </p:spPr>
      </p:pic>
      <p:sp>
        <p:nvSpPr>
          <p:cNvPr id="303" name="AutoShape 255"/>
          <p:cNvSpPr/>
          <p:nvPr/>
        </p:nvSpPr>
        <p:spPr>
          <a:xfrm>
            <a:off x="5364000" y="3357720"/>
            <a:ext cx="1944720" cy="865080"/>
          </a:xfrm>
          <a:prstGeom prst="leftArrow">
            <a:avLst>
              <a:gd name="adj1" fmla="val 50000"/>
              <a:gd name="adj2" fmla="val 562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353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383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1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392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166" descr="http://www.heimwerker-tipps.net/wp-content/uploads/2008/02/heizkoerper.jpg"/>
          <p:cNvPicPr/>
          <p:nvPr/>
        </p:nvPicPr>
        <p:blipFill>
          <a:blip r:embed="rId38"/>
          <a:stretch/>
        </p:blipFill>
        <p:spPr>
          <a:xfrm>
            <a:off x="2987640" y="2276640"/>
            <a:ext cx="4000680" cy="2676240"/>
          </a:xfrm>
          <a:prstGeom prst="rect">
            <a:avLst/>
          </a:prstGeom>
          <a:ln w="0">
            <a:noFill/>
          </a:ln>
        </p:spPr>
      </p:pic>
      <p:sp>
        <p:nvSpPr>
          <p:cNvPr id="467" name="Line 171"/>
          <p:cNvSpPr/>
          <p:nvPr/>
        </p:nvSpPr>
        <p:spPr>
          <a:xfrm flipH="1">
            <a:off x="6156000" y="1413000"/>
            <a:ext cx="431640" cy="158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72"/>
          <p:cNvSpPr/>
          <p:nvPr/>
        </p:nvSpPr>
        <p:spPr>
          <a:xfrm>
            <a:off x="3276720" y="1197000"/>
            <a:ext cx="934920" cy="2663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495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518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548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6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557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8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164" descr="http://www.abload.de/img/imag0098c1ajt.jpg"/>
          <p:cNvPicPr/>
          <p:nvPr/>
        </p:nvPicPr>
        <p:blipFill>
          <a:blip r:embed="rId38"/>
          <a:stretch/>
        </p:blipFill>
        <p:spPr>
          <a:xfrm>
            <a:off x="1042920" y="2421000"/>
            <a:ext cx="4667400" cy="2790720"/>
          </a:xfrm>
          <a:prstGeom prst="rect">
            <a:avLst/>
          </a:prstGeom>
          <a:ln w="0">
            <a:noFill/>
          </a:ln>
        </p:spPr>
      </p:pic>
      <p:sp>
        <p:nvSpPr>
          <p:cNvPr id="632" name="Line 165"/>
          <p:cNvSpPr/>
          <p:nvPr/>
        </p:nvSpPr>
        <p:spPr>
          <a:xfrm>
            <a:off x="2627280" y="1341360"/>
            <a:ext cx="432000" cy="1295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166"/>
          <p:cNvSpPr/>
          <p:nvPr/>
        </p:nvSpPr>
        <p:spPr>
          <a:xfrm>
            <a:off x="2124000" y="1773360"/>
            <a:ext cx="71640" cy="208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167"/>
          <p:cNvSpPr/>
          <p:nvPr/>
        </p:nvSpPr>
        <p:spPr>
          <a:xfrm>
            <a:off x="2916360" y="1773360"/>
            <a:ext cx="1368360" cy="1942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661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676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684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714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2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723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4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797" name="Line 167"/>
          <p:cNvSpPr/>
          <p:nvPr/>
        </p:nvSpPr>
        <p:spPr>
          <a:xfrm flipV="1">
            <a:off x="1258920" y="4436640"/>
            <a:ext cx="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168"/>
          <p:cNvSpPr/>
          <p:nvPr/>
        </p:nvSpPr>
        <p:spPr>
          <a:xfrm flipV="1">
            <a:off x="826920" y="3357360"/>
            <a:ext cx="0" cy="23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169"/>
          <p:cNvSpPr/>
          <p:nvPr/>
        </p:nvSpPr>
        <p:spPr>
          <a:xfrm flipV="1">
            <a:off x="539640" y="3141360"/>
            <a:ext cx="2664000" cy="237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feld 1"/>
          <p:cNvSpPr/>
          <p:nvPr/>
        </p:nvSpPr>
        <p:spPr>
          <a:xfrm>
            <a:off x="500040" y="1700280"/>
            <a:ext cx="3135240" cy="173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er ein Bild aus dem Buderus-Katalog einfügen von einem bodenstehenden Heizkessel mit dem Schnellmontagesystem RK 1-E 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827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842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9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850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880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8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889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0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64" descr="http://www.tommshop.de/Media/Shop/63222.jpg"/>
          <p:cNvPicPr/>
          <p:nvPr/>
        </p:nvPicPr>
        <p:blipFill>
          <a:blip r:embed="rId38"/>
          <a:stretch/>
        </p:blipFill>
        <p:spPr>
          <a:xfrm>
            <a:off x="1835280" y="765000"/>
            <a:ext cx="3143160" cy="2857680"/>
          </a:xfrm>
          <a:prstGeom prst="rect">
            <a:avLst/>
          </a:prstGeom>
          <a:ln w="0">
            <a:noFill/>
          </a:ln>
        </p:spPr>
      </p:pic>
      <p:sp>
        <p:nvSpPr>
          <p:cNvPr id="964" name="Line 165"/>
          <p:cNvSpPr/>
          <p:nvPr/>
        </p:nvSpPr>
        <p:spPr>
          <a:xfrm flipV="1">
            <a:off x="1835280" y="2923920"/>
            <a:ext cx="792000" cy="302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Line 166"/>
          <p:cNvSpPr/>
          <p:nvPr/>
        </p:nvSpPr>
        <p:spPr>
          <a:xfrm flipH="1" flipV="1">
            <a:off x="3419280" y="2852280"/>
            <a:ext cx="865080" cy="201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Line 167"/>
          <p:cNvSpPr/>
          <p:nvPr/>
        </p:nvSpPr>
        <p:spPr>
          <a:xfrm flipH="1" flipV="1">
            <a:off x="4427280" y="2852280"/>
            <a:ext cx="2592360" cy="2592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993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005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008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5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016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4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046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4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055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6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8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64" descr="http://www.ersatzteilfachmann.de/images/product_images/popup_images/image_BUDERUS5594672_1.jpg"/>
          <p:cNvPicPr/>
          <p:nvPr/>
        </p:nvPicPr>
        <p:blipFill>
          <a:blip r:embed="rId38"/>
          <a:stretch/>
        </p:blipFill>
        <p:spPr>
          <a:xfrm>
            <a:off x="1692360" y="260280"/>
            <a:ext cx="4897440" cy="3676680"/>
          </a:xfrm>
          <a:prstGeom prst="rect">
            <a:avLst/>
          </a:prstGeom>
          <a:ln w="0">
            <a:noFill/>
          </a:ln>
        </p:spPr>
      </p:pic>
      <p:sp>
        <p:nvSpPr>
          <p:cNvPr id="1130" name="Line 165"/>
          <p:cNvSpPr/>
          <p:nvPr/>
        </p:nvSpPr>
        <p:spPr>
          <a:xfrm flipH="1" flipV="1">
            <a:off x="4066920" y="3212640"/>
            <a:ext cx="73080" cy="208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feld 1"/>
          <p:cNvSpPr/>
          <p:nvPr/>
        </p:nvSpPr>
        <p:spPr>
          <a:xfrm>
            <a:off x="5302080" y="3598920"/>
            <a:ext cx="127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©Copyright ES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14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5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5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15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6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7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17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17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17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18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21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21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22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294" name="Picture 164" descr="http://medien.markt.de/bilder/2013/10/29/18/35849bd2/medium_image/0/buderus_ecomatic_heizungsregelung.jpg"/>
          <p:cNvPicPr/>
          <p:nvPr/>
        </p:nvPicPr>
        <p:blipFill>
          <a:blip r:embed="rId38"/>
          <a:stretch/>
        </p:blipFill>
        <p:spPr>
          <a:xfrm>
            <a:off x="1692360" y="184464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1295" name="Line 165"/>
          <p:cNvSpPr/>
          <p:nvPr/>
        </p:nvSpPr>
        <p:spPr>
          <a:xfrm flipV="1">
            <a:off x="3419640" y="4220640"/>
            <a:ext cx="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297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298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299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300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301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02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03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304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305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306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07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308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09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0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1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2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3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4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5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6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7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8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9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20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21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322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2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33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34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335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336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337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4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345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3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374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375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3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384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5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7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458" name="Picture 164" descr="thumb_w680_h800_Fubodenheizungsverteiler"/>
          <p:cNvPicPr/>
          <p:nvPr/>
        </p:nvPicPr>
        <p:blipFill>
          <a:blip r:embed="rId38"/>
          <a:stretch/>
        </p:blipFill>
        <p:spPr>
          <a:xfrm>
            <a:off x="2556000" y="0"/>
            <a:ext cx="4032000" cy="3024360"/>
          </a:xfrm>
          <a:prstGeom prst="rect">
            <a:avLst/>
          </a:prstGeom>
          <a:ln w="0">
            <a:noFill/>
          </a:ln>
        </p:spPr>
      </p:pic>
      <p:sp>
        <p:nvSpPr>
          <p:cNvPr id="1459" name="AutoShape 165"/>
          <p:cNvSpPr/>
          <p:nvPr/>
        </p:nvSpPr>
        <p:spPr>
          <a:xfrm>
            <a:off x="4140360" y="2637000"/>
            <a:ext cx="287280" cy="936360"/>
          </a:xfrm>
          <a:prstGeom prst="upArrow">
            <a:avLst>
              <a:gd name="adj1" fmla="val 50000"/>
              <a:gd name="adj2" fmla="val 81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AutoShape 166"/>
          <p:cNvSpPr/>
          <p:nvPr/>
        </p:nvSpPr>
        <p:spPr>
          <a:xfrm>
            <a:off x="4788000" y="2637000"/>
            <a:ext cx="287280" cy="936360"/>
          </a:xfrm>
          <a:prstGeom prst="upArrow">
            <a:avLst>
              <a:gd name="adj1" fmla="val 50000"/>
              <a:gd name="adj2" fmla="val 81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Line 167"/>
          <p:cNvSpPr/>
          <p:nvPr/>
        </p:nvSpPr>
        <p:spPr>
          <a:xfrm flipH="1" flipV="1">
            <a:off x="5724000" y="1413000"/>
            <a:ext cx="360360" cy="20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Werner, Uwe (ZSL)</cp:lastModifiedBy>
  <dcterms:modified xsi:type="dcterms:W3CDTF">2020-03-02T14:24:45Z</dcterms:modified>
  <cp:revision>16</cp:revision>
  <dc:subject/>
  <dc:title>Folie 1</dc:title>
</cp:coreProperties>
</file>